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7C4C-7184-42B9-BADE-46A666C9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As coaches our focus is on asking questions 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This way I can avoid providing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Compare this  with mento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C181-91B1-4BF8-AEFD-22554AD7A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A24-895B-4CBA-B6D9-A5443489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28B-41E5-454E-BB9B-AF9EF011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BFB-6556-459B-A34C-996870BF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2FA-557B-477A-BBD3-C4EC6AEC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32C5-8A69-45E8-9853-4FA76578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1122-5ED6-4586-A228-9D5EF7CF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1A9-2544-4730-ACE2-63A28230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2732-8FBA-4B24-8061-27CE4A12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E3E2-A2B9-4088-95C7-796492B8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DA64-BC8D-4059-8934-C3E647C3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6A8-9C93-49A4-8EDE-FD01D739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18B-2DD3-4105-B659-07FA9D7B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FE8-A55A-4572-9AE9-62AE980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00E-6CEE-46FC-9DA1-99D6896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4323-7371-45A3-8746-9FD07AC0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6F56-73BD-4403-A864-2599CA51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4DC-E06F-4992-844B-BDC5121C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D21-188A-487A-A260-B77ED625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86F-43BD-46BE-B76A-094097F3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5F1-59AF-4A48-808B-1D072C9F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4E4-B854-4EF4-A67B-FFCB8DD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F25-D046-4715-9B33-5424B47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3B5-B38D-48D3-AC83-74D0075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E6E-4ECE-41EA-A7F9-3318B8A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638-48CC-4110-9B37-5AB3CE5E6B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1B3-F4BD-4CAD-A2E0-3B0179E29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A Professional Learning Model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~ Coaching ~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w educational innovations achieve their full impact without a coaching component.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oyce and Showers (1988) found that only when the component of coaching was added was the innovation internalized, valued and transferred to the classro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privatization enhances the intellectual capacities of teachers, which, in turn,  produces greater intellectual achievements in stude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ive Professional Lear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3925800" y="40053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20735400">
            <a:off x="5916600" y="549252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entury Gothic"/>
              </a:rPr>
              <a:t>Less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 rot="21213600">
            <a:off x="7087320" y="26953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Century Gothic"/>
              </a:rPr>
              <a:t>C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 rot="20947800">
            <a:off x="4856400" y="21794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Walk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 rot="693000">
            <a:off x="969480" y="24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entury Gothic"/>
              </a:rPr>
              <a:t>Pre-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 rot="1062000">
            <a:off x="2937960" y="203508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P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 rot="21312000">
            <a:off x="2324520" y="2997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entury Gothic"/>
              </a:rPr>
              <a:t>Learning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 rot="1284600">
            <a:off x="1092600" y="54684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Coaching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 rot="21310800">
            <a:off x="2597040" y="460224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Lab Si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 rot="314400">
            <a:off x="5005080" y="470016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Plann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 rot="19259400">
            <a:off x="1170720" y="38383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 rot="621600">
            <a:off x="5579640" y="350028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fessional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 rot="10800000">
            <a:off x="1186920" y="3344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fessional Dial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832600">
            <a:off x="3772440" y="531936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-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500600">
            <a:off x="1524960" y="1657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6160" y="16938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17924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eer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7240" y="3952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ritic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9080" y="6021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School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62308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n-lin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2360" y="61135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tud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ach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coaching is a highly sophisticated form of school based professional reflective practice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series of conversations designed to assist teachers to extend their personal and professional learning to improve student achievement.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ulie Boy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055960" y="985680"/>
            <a:ext cx="4959000" cy="4960800"/>
            <a:chOff x="2055960" y="985680"/>
            <a:chExt cx="4959000" cy="4960800"/>
          </a:xfrm>
        </p:grpSpPr>
        <p:sp>
          <p:nvSpPr>
            <p:cNvPr id="108" name="_s22532"/>
            <p:cNvSpPr/>
            <p:nvPr/>
          </p:nvSpPr>
          <p:spPr>
            <a:xfrm>
              <a:off x="2849400" y="985680"/>
              <a:ext cx="3372120" cy="3373560"/>
            </a:xfrm>
            <a:custGeom>
              <a:avLst/>
              <a:gdLst>
                <a:gd name="textAreaLeft" fmla="*/ 0 w 3372120"/>
                <a:gd name="textAreaRight" fmla="*/ 3372480 w 3372120"/>
                <a:gd name="textAreaTop" fmla="*/ 0 h 3373560"/>
                <a:gd name="textAreaBottom" fmla="*/ 3373920 h 337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100000">
                  <a:srgbClr val="ffffe1"/>
                </a:gs>
              </a:gsLst>
              <a:lin ang="81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2533"/>
            <p:cNvSpPr/>
            <p:nvPr/>
          </p:nvSpPr>
          <p:spPr>
            <a:xfrm rot="5400000">
              <a:off x="3642120" y="1779840"/>
              <a:ext cx="3373560" cy="3372120"/>
            </a:xfrm>
            <a:custGeom>
              <a:avLst/>
              <a:gdLst>
                <a:gd name="textAreaLeft" fmla="*/ 0 w 3373560"/>
                <a:gd name="textAreaRight" fmla="*/ 3373920 w 3373560"/>
                <a:gd name="textAreaTop" fmla="*/ 0 h 3372120"/>
                <a:gd name="textAreaBottom" fmla="*/ 3372480 h 337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e1"/>
                </a:gs>
              </a:gsLst>
              <a:lin ang="27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2534"/>
            <p:cNvSpPr/>
            <p:nvPr/>
          </p:nvSpPr>
          <p:spPr>
            <a:xfrm rot="10800000">
              <a:off x="2849040" y="2572920"/>
              <a:ext cx="3372120" cy="3373560"/>
            </a:xfrm>
            <a:custGeom>
              <a:avLst/>
              <a:gdLst>
                <a:gd name="textAreaLeft" fmla="*/ 0 w 3372120"/>
                <a:gd name="textAreaRight" fmla="*/ 3372480 w 3372120"/>
                <a:gd name="textAreaTop" fmla="*/ 0 h 3373560"/>
                <a:gd name="textAreaBottom" fmla="*/ 3373920 h 337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cccc99"/>
                </a:gs>
                <a:gs pos="100000">
                  <a:srgbClr val="ffffe1"/>
                </a:gs>
              </a:gsLst>
              <a:lin ang="189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2535"/>
            <p:cNvSpPr/>
            <p:nvPr/>
          </p:nvSpPr>
          <p:spPr>
            <a:xfrm rot="16200000">
              <a:off x="2054880" y="1779840"/>
              <a:ext cx="3373560" cy="3371760"/>
            </a:xfrm>
            <a:custGeom>
              <a:avLst/>
              <a:gdLst>
                <a:gd name="textAreaLeft" fmla="*/ 0 w 3373560"/>
                <a:gd name="textAreaRight" fmla="*/ 3373920 w 3373560"/>
                <a:gd name="textAreaTop" fmla="*/ 0 h 3371760"/>
                <a:gd name="textAreaBottom" fmla="*/ 3372120 h 33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e1"/>
                </a:gs>
              </a:gsLst>
              <a:lin ang="135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2536"/>
            <p:cNvSpPr/>
            <p:nvPr/>
          </p:nvSpPr>
          <p:spPr>
            <a:xfrm>
              <a:off x="5432400" y="1297080"/>
              <a:ext cx="12700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DEBR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lect upon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equences of action 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situation based o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lle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2537"/>
            <p:cNvSpPr/>
            <p:nvPr/>
          </p:nvSpPr>
          <p:spPr>
            <a:xfrm>
              <a:off x="5433840" y="4361040"/>
              <a:ext cx="12700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LANNED LEAR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lore and diagno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experience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dertaking 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2538"/>
            <p:cNvSpPr/>
            <p:nvPr/>
          </p:nvSpPr>
          <p:spPr>
            <a:xfrm>
              <a:off x="2370240" y="4363920"/>
              <a:ext cx="12697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-BR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eaching focus is expl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actions so a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rove the sit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2539"/>
            <p:cNvSpPr/>
            <p:nvPr/>
          </p:nvSpPr>
          <p:spPr>
            <a:xfrm>
              <a:off x="2367000" y="1300320"/>
              <a:ext cx="12700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SERVATION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ent and observ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Plan in the sit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jected data is colle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92360" y="2781360"/>
              <a:ext cx="237672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0033"/>
                  </a:solidFill>
                  <a:uFillTx/>
                  <a:latin typeface="Arial"/>
                </a:rPr>
                <a:t>The Coaching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Effective coaches focus on the specific needs identified by the teachers being coache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ach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t 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sed on stud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based and data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best available research on effective teaching &amp;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gical/Discipline/Pedagogic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mpact of professional development &amp; training on job performa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1809720"/>
          <a:ext cx="7696080" cy="4398840"/>
        </p:xfrm>
        <a:graphic>
          <a:graphicData uri="http://schemas.openxmlformats.org/drawingml/2006/table">
            <a:tbl>
              <a:tblPr/>
              <a:tblGrid>
                <a:gridCol w="2664000"/>
                <a:gridCol w="1873080"/>
                <a:gridCol w="1440000"/>
                <a:gridCol w="17190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components &amp; combin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and demon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 and feed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, feedback and 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95360" y="6345360"/>
            <a:ext cx="825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ference: Training components, their combinations and impact on job performance (based on Joyce and Sowers, 1988 adapted by Wallace, M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Claxton, g. et al (1996). Liberating the learner, London: Routledge, p.2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ning Protocol – 11m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eedback &amp; Reflective Questions      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on Streng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senter takes notes and DOES NOT respond y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Responds &amp; Open Conversation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on the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Links</a:t>
            </a:r>
            <a:br>
              <a:rPr sz="36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How have the ideas of these educational thinkers; Showers, Lieberman and Miller influenced education in Victo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chool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ven Principals of Highly Effective Professional Developm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ach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Elmore’s Secon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Dialogue; PALTS, Learning Walks, Lesson Study, Lab Site, Walk Throughs, Professional Reading, Protocols, etc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FFECTIVE SCHOO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0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LMOR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Elmore’s second law of profession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78136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0160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27480" y="3573360"/>
            <a:ext cx="5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ge Ital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686480"/>
            <a:ext cx="8209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 of professional development on practice and performance is inverse to the square of its distance from the classroom.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ool Reform from the Inside Out; Policy, Practice and Performanc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ichard F. Elmor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486900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7162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36640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visi" descr=""/>
          <p:cNvPicPr/>
          <p:nvPr/>
        </p:nvPicPr>
        <p:blipFill>
          <a:blip r:embed="rId1"/>
          <a:stretch/>
        </p:blipFill>
        <p:spPr>
          <a:xfrm>
            <a:off x="1557360" y="2637000"/>
            <a:ext cx="11430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5:31:32Z</dcterms:created>
  <dc:creator>02523066</dc:creator>
  <dc:description/>
  <dc:language>en-US</dc:language>
  <cp:lastModifiedBy>02523066</cp:lastModifiedBy>
  <dcterms:modified xsi:type="dcterms:W3CDTF">2009-05-10T07:25:12Z</dcterms:modified>
  <cp:revision>5</cp:revision>
  <dc:subject/>
  <dc:title>EFFECTIVE SCHOOLS</dc:title>
</cp:coreProperties>
</file>